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62A-C726-43A9-B66C-44CB62B8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31A-BFB3-4126-956E-5CC0438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A65DDA-036F-400A-A8D8-8BE2D828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E21C7D-0CF3-4EAB-8787-FCF28022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12FE2-1F9E-4EE7-A09D-ABA29E21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EA7BA-7A26-442D-AA22-AB230B5C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AE28A-19CD-4BE7-99C2-6996F10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4025A-23F3-4B2C-A589-D03E10B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79FB4-D303-4079-B93E-98FBEE0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FFD63-6B47-437B-90EB-1C425081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0532F-4AA2-4CAE-80FE-27761FCA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8B49E3-55AA-4FC3-B516-F2547EA8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63F-0CA3-41D3-8366-6D7E6776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67D8C-8A87-4F05-82B6-B980EEE9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190ECE-CC33-49FC-843B-6518257F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57670-7B8C-452C-B3E6-ADC2BE62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803047-E79E-44E9-A8EF-07B92DC8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BD965E-FB49-4A42-838E-9C16D7C3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38C2BA-153B-4C3C-AD18-B53949A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E1A1F3-FAB9-4EC7-B99D-FEDB93B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3769F3-1A11-41E3-A36F-DE071E16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3C3A0-7BCE-43EE-A36B-BD7386A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EEA2CD-BDC6-44F6-8A95-7B2E1C8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B1D-83DA-45A1-8D3E-B8A16915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CF729-66A5-4F33-8755-55AADCFF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F6BE0C-F5EF-45DF-BE2B-860597E3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DDEE72-8CF2-4698-A76A-F9C03DB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D29D87-2DBB-4D75-86F1-5A7F4C2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1C6CC-D5E1-406B-BDE9-20649D07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C10C1A-5C40-4BE0-86C4-BD9D8D0A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AC4CDE-12B7-4005-9982-43778722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F72841-B25F-47DE-B1E6-F51E0BB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095954-3866-4C26-BC75-8ED2EB9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784B8E-4722-4FDA-A310-5649EB5D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8AD29D-8983-40C1-A50A-7887E056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28C8AE-AE8A-420E-A2BE-381C977D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98F898-9580-4B07-993C-5E0463A5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431174-2430-439B-A09D-2DC4EDCD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1010BF-84A4-482F-8B2D-6304E1C3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A36315-7923-472B-87D9-7168C1C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143AE3-39F3-43B5-A4B6-24AB4B6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FBD0E2-CE8F-4E06-A4DA-DC965EBA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517C9A-3624-4B95-86D6-7C7503D5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A436A-2D2D-4F0D-BD7D-96F4EF0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7887D-3BDA-48E6-B369-54C9C1CB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59571B-BBFE-4734-855E-2B126518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D142C1-8822-417D-BE86-560F1BBC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9FEEA9-5398-4265-B071-1F582D35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323565-8AE4-441A-8C90-37849A0A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4A2F1F-D022-4C8E-9AF1-06FAF073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5B1353-C9C8-4DD6-A9B5-00D22620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02DCAA-106E-490F-ABDA-7FB37667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4A173A-00E7-40FD-A220-264D2467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B941A-F032-4697-85F3-E8E76BF2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74812F-554A-4A5A-BCA1-1222373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53984F-1418-4997-8ACB-156E75E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503869-F25A-492B-BD17-6E9E028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D44589-CBA9-4A3A-A79C-B09CDCC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752123-3FD1-41E5-9101-25BA9DD6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EB2321-6AE4-476B-AC2F-A64B600E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7FCE5C-A396-4E2A-B243-986EBAA5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15A-1F20-428C-9031-8CD88FA5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00780-4C86-4412-9BDF-E87CA9D6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0A1BF-4878-417B-96D7-DA300E0B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01193-8828-4694-9BC2-2ACC103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839B8-7273-4D32-B92A-75FA3C08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811F0-E6B4-4317-81AB-520DBC7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799-1419-431F-93A8-2F13108F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02DE1-81F3-467F-BEA4-2E2ED95B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F3547-4EEC-43B9-A42A-C1289D1B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D366D-B2C9-4235-A865-883C152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56734-6BB7-480D-AAAC-89721F4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47559-8EA1-479C-8E2C-C4C67C7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3B3CB-1D19-4AED-9F1B-7E44D1B6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8E037-37FC-4CDE-8C56-7DFB7844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7C00F-3D26-4D48-9EC0-B3324835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E317C-F821-44BB-B4A7-8F79A260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51F63-FB81-4AC0-BB02-E1204789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3F8-2031-41D8-B37E-E2E5B672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EAEEA-20A6-43E9-9945-4C2F6EE6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932C8-EDBD-4F03-8629-1E58391C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C0CD6-6455-4A5B-963A-1065EFD1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7B377-82F1-4F5D-BEEE-6810135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015FC-32BD-4176-9898-3E1290D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7F74F-31F5-441C-A1F6-77A682D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72B99-EF27-48C7-85CD-B1507D0F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C7600-CD31-4F2F-B260-0D06739A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C8DF3-6AD9-4BB1-B487-CCB9C52D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C5422-4B5D-40AA-BD5A-48C66DDC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621-674F-45DB-A0D1-51B1310C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CCEB2-86E6-4F83-B594-B0690F7C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A5DF6-EE7F-42F7-A5F2-0735265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48226-2CB1-408C-982B-6D4B6E1B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DAFC7-E956-4F0F-9CC7-3540DDE9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92C3D-A8FF-4C70-B0E8-9C5DDACF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D1C87-A624-4159-BEC4-6CEEA05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018EF-38FF-4D3C-9AA2-0614C07A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1A4B2-FB89-4BFA-BEA8-488154C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F92A8-4BB4-4735-8244-179C24F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280C3-5312-4FDF-99C7-BBD1F0CE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3A2-1C6E-4968-B349-7D89D47E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C5D5D-DB15-4E15-A516-60ECC5CF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5E5F8-3CD8-45AF-A053-31FFCD85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FD463-FCA6-4FDC-B81E-86197B0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05DDF-7547-4E20-A7B2-D65CD6A5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83F35-1985-4477-8C9E-83E1398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CD8A9-DCB6-482F-9581-025FADF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5B328-BD66-44EB-9EE1-230F18D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DDC35-42EF-45FA-BC8E-F2C53DB8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91DB2-FD6B-4629-A3C2-B04739F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17102-FCC1-469F-880B-DE7A09E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FCF-C533-41E5-8A8D-F9CB36C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A2990-3ADD-4159-931A-C8EB080D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A8ED9-C1BF-411F-AB5E-1F1859D6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4E0D4-9B1F-4728-883E-7ACDC10F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50B86-124A-4D4B-9F4E-07641943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BBDD0-7419-4A2B-8381-08CA417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6788E-0115-44C8-9DB3-D935199F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24F2A-E85A-4414-82AA-FD3F7ABC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0B666-E1E9-4BD0-8442-ED9A55B2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6C574-7E88-4751-A607-F392EB2F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698F6-05A4-44D1-B7A3-52499D6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7B1-03AF-4E89-AE7C-48DB51A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7ABDB-D09E-44DB-872F-CA48EEDC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F5888-90FC-481F-A913-76CD56A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6215E-2E7D-44E6-9BAB-F55F4A0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EFA31-DDB8-49AD-ADB9-FFE24A6F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1A909-AA00-4A6A-B6EA-90098BB8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7D663-C7E9-42C0-A305-53F919AE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47BAD-19C9-4868-A767-16CFF70C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F4EA4-EC6C-470E-A7C4-64A9271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B4844-199F-4EBD-BA23-072B88A9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339228-E2BB-4B9D-9AF6-9C5239E1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7F0-478D-4DCA-B017-DFCDFE3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2F30C-D099-422A-9127-AEA6DA42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1BFC2-7EEE-4C32-958B-DF86971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ACF730-B617-4465-8EFD-20C5919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AB89F-E9E2-4D94-92EF-7B7EC9E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F34FE6-1C37-4728-BE02-136913B6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6ACFE-51FE-4F8E-B07F-A124A978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F480D-C843-402E-848C-F8960BD9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6561A-0141-434A-B143-36BE7193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D2D23-DD5C-473A-85DC-31ACA9F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C60DA-3A34-42A0-B0B5-36A7037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BFD9-042C-43A2-B54C-4583F6D01B1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215E-1A83-4FEE-916B-475200CD347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DA7C-B199-4C15-9D19-FA8074B02B1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ECE-EF94-4835-A9BF-139B3204C25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5E6-D6DB-454D-B310-19BCCF7A150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8EE-009A-43CA-9906-BE038092ED4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3CA4-9FAD-4AD1-945F-A8BA2ED99C5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70BB-CB17-43A5-99E2-2EB004AECD0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3BD-E128-4A7C-9B59-AD0EB3D631D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8D50-CC07-4FF7-AC1E-4114700FD18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A616-742A-48C6-93B5-136FB74F371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94B-99A4-431C-BB15-DA06260D4DE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1371600" y="1792440"/>
            <a:ext cx="7089840" cy="193176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3" descr=""/>
          <p:cNvPicPr/>
          <p:nvPr/>
        </p:nvPicPr>
        <p:blipFill>
          <a:blip r:embed="rId2"/>
          <a:stretch/>
        </p:blipFill>
        <p:spPr>
          <a:xfrm>
            <a:off x="1371600" y="3664080"/>
            <a:ext cx="7089840" cy="175572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Leaps of Imagination Through Comics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Narrative is one kind of guide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tyle is another and provides the artist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vision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Blank spaces intrigue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Comics serve as a guide to imagining the visual aspect of a story as it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transformed through the cartoonist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perception, as opposed to the reader</a:t>
            </a:r>
            <a:r>
              <a:rPr b="0" lang="ja-JP" sz="26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s own.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ndara"/>
              </a:rPr>
              <a:t>Narrative convert into an interpreted two-dimensional image that is actually four-dimensional: space in time</a:t>
            </a: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Terms to Remember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anel: A box which contains a scen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order: the outline of the pan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utters: Space between the panel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ier: row of panels on a p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alloons: container of text-dialogu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ail: pointer leading to balloo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Terms to Remember, Cont.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Bird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 Eye View: scene as seen from above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Worm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 Eye View: as seen from below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Gesture: human movement or expression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Posture: attitude of the body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Flow: the arrangement of the panels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Typography: font type and size/special effects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Two kinds of Information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Drawn Imag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ritten Word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Painting versus poetr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Drawn Images: Painting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ritten Word: Poetry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=the same thing: 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oetry is a verbal picture; painting is a silent poem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4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How Reading Comics Works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 viewer looks at a printed page and sees a series of drawn (cartooned) images,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y are surrounded by borde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nd have empty space between them.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Each one is a representation of a single moment or very short, continuous span of time.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Reading comics, cont.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ome of those bordered images also include text, surrounded by lines or other visual cues that indicate whether it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s to be read as speech spoken (at the time of the moment seen in the image) 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lvl="1" marL="571680" indent="-29196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y one of the characters in the scene,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1680" indent="-29196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 as speech by another character who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 not visible in the panel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1680" indent="-29196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 as narration from an omniscient source.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2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ingle Panels and tim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mbolic tricks like special kinds of lines that imply speed and motio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howing the same figure or different figures at slightly separated moments in tim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anguage, especially dialogue 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ce and tim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re</a:t>
            </a:r>
            <a:r>
              <a:rPr b="0" lang="ja-JP" sz="2400" spc="-1" strike="noStrike">
                <a:solidFill>
                  <a:srgbClr val="404040"/>
                </a:solidFill>
                <a:latin typeface="Candara"/>
                <a:ea typeface="メイリオ"/>
              </a:rPr>
              <a:t>’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 an element of space in any one panel and an element of time in some comic panels--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 domain of the word-and-image combination is both space and tim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nother panel can add a gap in time and then a jerk forward, but flow may not be only in one directio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Between Panels: The gutter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Blank space whose borders are also the borders outlining the imag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May have only a line between panels or dissolve into blankness without specific panel borde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e bordered gutter has become the default. The gutter is where fun happe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ndara"/>
              </a:rPr>
              <a:t>What happens in the gutter</a:t>
            </a:r>
            <a:endParaRPr b="1" lang="en-US" sz="43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Readers get to fill in the lapse of time represented by the blankness of the gutter.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Can serve as 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“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pregnant moments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”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 which give birth to the space before the next moment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  <a:p>
            <a:pPr marL="265320" indent="-26532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Contributes to the process of imagining the relationship between the image in one panel to the image in the next as 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“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closure</a:t>
            </a:r>
            <a:r>
              <a:rPr b="0" lang="ja-JP" sz="2800" spc="-1" strike="noStrike">
                <a:solidFill>
                  <a:srgbClr val="404040"/>
                </a:solidFill>
                <a:latin typeface="Candara"/>
                <a:ea typeface="メイリオ"/>
              </a:rPr>
              <a:t>”</a:t>
            </a:r>
            <a:r>
              <a:rPr b="0" lang="en-US" sz="2800" spc="-1" strike="noStrike">
                <a:solidFill>
                  <a:srgbClr val="40404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8" name="Date Placeholder 3"/>
          <p:cNvSpPr/>
          <p:nvPr/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02:48:14Z</dcterms:created>
  <dc:creator>Robin Murray</dc:creator>
  <dc:description/>
  <dc:language>en-US</dc:language>
  <cp:lastModifiedBy>Robin Murray</cp:lastModifiedBy>
  <dcterms:modified xsi:type="dcterms:W3CDTF">2011-11-02T17:28:16Z</dcterms:modified>
  <cp:revision>3</cp:revision>
  <dc:subject/>
  <dc:title>Reading Comics and Graphic Novels</dc:title>
</cp:coreProperties>
</file>